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FE0-76AD-4411-99BF-DDA7E1D3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CE2-F418-468D-9A0F-7E982118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762-6A8D-49FE-9E89-1786B9D7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898-92F9-4F42-A69B-52BF3997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AD4-84C1-46A1-91FD-08FB2F08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013-6A99-4298-ACE2-4D5E5F4A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B41-E3AF-4CE3-A56A-7B9F1D43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DDA-1368-48B4-AB2B-E3EAC4EC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8A2-8967-4B2B-857D-BC13EFCD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6FC-5901-4A1D-823F-6E1296D9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39E-A1AE-4B48-80AF-2C558941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FDD-166F-4C7F-9E94-C1ED69F8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C5B6-6B5A-4031-BBB5-7A604A924052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Dikdörtgen"/>
          <p:cNvSpPr/>
          <p:nvPr/>
        </p:nvSpPr>
        <p:spPr>
          <a:xfrm>
            <a:off x="3583800" y="3286080"/>
            <a:ext cx="50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21. Yüzyıl becerileri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468360" y="1274760"/>
            <a:ext cx="914400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Calibri"/>
              </a:rPr>
              <a:t>Sosyal ve Kültürlerarası Beceril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Diğerleriyle uygun ve üretken bir şekilde çalış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Uygun olduğunda grupların ortak anlayışını ayarla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Yenilikleri arttırmak ve iş kalitesini yükseltmek üzere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kültürel   farklılıklar arasındaki boşlukları doldurmak ve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farklı bakış  açılarını kullanmak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539640" y="1699200"/>
            <a:ext cx="79297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Üretkenlik ve Sorumluluk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İşin zamanında ve kaliteli yapılabilmesi için yüksek standart ve hedefler belirlemek ve bunlara ulaş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Titiz ve olumlu iş etiği sergilemek (örneğin, işe zamanında gelmek ve güvenilir olmak)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000080" y="1109520"/>
            <a:ext cx="7358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Liderlik ve Sorumluluk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Diğerlerini belirli bir hedefe yönelik etkilemek ve yönlendirmek üzere bireylerarası problem çözme becerileri kullan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Ortak bir hedefe ulaşmak üzere diğerlerinin güçlerini düzenlemek,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Dürüst ve etik davranışlar sergileme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Zihninde toplum yararını düşünerek sorumlu davranmak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85840" y="878400"/>
            <a:ext cx="8572320" cy="44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Öğrenme ve Yenilenme Becerileri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Calibri"/>
                <a:ea typeface="Calibri"/>
              </a:rPr>
              <a:t>Yaratıcılık ve Yenilenme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Çalışma hayatında orjinalite ve yaratıcılık sergileme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Diğerlerinin işine yarayacak yeni fikirler geliştirmek, uygulamak ve anlat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Yeni ve farklı bakış açılarına açık ve uyumlu ol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Yeniliğin geliştiği alanlarda yaratıcı fikirlerle somut ve yararlı yardımlarda bulunmak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Dikdörtgen"/>
          <p:cNvSpPr/>
          <p:nvPr/>
        </p:nvSpPr>
        <p:spPr>
          <a:xfrm>
            <a:off x="214200" y="1268280"/>
            <a:ext cx="8929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tr-TR" sz="3200" spc="-1" strike="noStrike">
                <a:solidFill>
                  <a:srgbClr val="000000"/>
                </a:solidFill>
                <a:latin typeface="Calibri"/>
                <a:ea typeface="Calibri"/>
              </a:rPr>
              <a:t>Eleştirel Düşünme ve Problem Çözme</a:t>
            </a:r>
            <a:r>
              <a:rPr b="1" lang="tr-T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  <a:ea typeface="Calibri"/>
              </a:rPr>
              <a:t>Anlamaya yönelik doğru akıl yürütme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Karmaşık seçimler yapmak ve kararlar verme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Sistemlerarası  ilişkileri anlamak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Farklı bakış açılarını netleştirmeye ve daha etkili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çözümler üretmeye yönelik sorular belirlemek ve sor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Problem çözmek ve soruları yanıtlamak üzere bilgiyi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sınırlandırmak, çözümlemek ve birleştirmek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0040" y="1304640"/>
            <a:ext cx="77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Calibri"/>
                <a:ea typeface="Calibri"/>
              </a:rPr>
              <a:t>İletişim ve İşbirliği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  <a:ea typeface="Calibri"/>
              </a:rPr>
              <a:t>Konuşurken ve yazarken düşünceleri ve fikirleri açık ve etkili bir şekilde birleştirip kullan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Farklı takımlarda etkin çalışabilme becerisi gösterme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Ortak bir amaca ulaşabilmek için gerekli çabayı gösterecek şekilde esnek ve istekli ol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İşbirliğine dayalı çalışmalar için sorumluluğu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paylaşmak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694440" y="95184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gi, Medya ve Teknoloji Becerileri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3 Dikdörtgen"/>
          <p:cNvSpPr/>
          <p:nvPr/>
        </p:nvSpPr>
        <p:spPr>
          <a:xfrm>
            <a:off x="714600" y="1700280"/>
            <a:ext cx="30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Calibri"/>
              </a:rPr>
              <a:t>Bilgi Okur-Yazarlığı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11280" y="220212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Problemlerin çözümüne yönelik olarak; bilgiye yeterli ve etkili düzeyde ulaşmak, bilgiyi (eleştirel) ve yeterli düzeyde değerlendirmek, doğru ve yaratıcı bir şekilde kullan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Bilginin erişimine ve kullanımına yönelik olarak etik ve yasal konularda temel bir anlayışa sahip olmak.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642960" y="732600"/>
            <a:ext cx="7961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Calibri"/>
              </a:rPr>
              <a:t>Medya Okur-Yazarlığı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Medyadaki iletilerin hangi amaçlara yönelik ve hangi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araçları, özellikleri ve yenilikleri kullanarak nasıl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yapılandırıldığını anlama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İnsanların iletileri nasıl farklı yorumladığını, değer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yargılarının ve bakış açılarının nasıl işe koşulup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koşulmadığını, medyanın inanç ve davranışları nasıl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etkilediğini gözleme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ilginin erişimine ve kullanımına yönelik olarak etik v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yasal konularda temel bir anlayışa sahip olmak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571680" y="117432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Calibri"/>
              </a:rPr>
              <a:t>Bilgi ve İletişim Teknolojileri (ICT) Okur-Yazarlığı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ilginin ekonomik kullanımına yönelik olarak, bilgiy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erişmek, yönetmek, bütünleştirmek, değerlendirmek v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yaratmak üzere dijital teknolojileri, iletişim araçlarını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ve/veya ağları uygun kullanma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ilgiyi araştırmak, düzenlemek, değerlendirmek v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paylaşmak üzere teknolojiyi araç olarak kullanmak, v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ilginin erişimine ve kullanımına yönelik olarak etik ve yasal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konularda temel bir anlayışa sahip olmak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611280" y="1996920"/>
            <a:ext cx="75294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Calibri"/>
              </a:rPr>
              <a:t>Esneklik ve Uyum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Farklı rol ve sorumlulukla uyum sağla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Karmaşık ve önceliklerin değiştiği ortamlarda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etkin olarak çalış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2 Dikdörtgen"/>
          <p:cNvSpPr/>
          <p:nvPr/>
        </p:nvSpPr>
        <p:spPr>
          <a:xfrm>
            <a:off x="611280" y="1052640"/>
            <a:ext cx="50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Yaşam ve Meslek Becerileri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428760" y="995760"/>
            <a:ext cx="835812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Calibri"/>
              </a:rPr>
              <a:t>Girişimcilik ve Öz-Yönetim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Kendi anlayışını ve öğrenme gereksinimlerini gözlemleme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Uzmanlaşmak üzere temel becerilerin ve/veya öğretim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programının sınırlarını aşarak kendi öğrenme sınırlarını ve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fırsatlarını keşfetmek, genişletme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ecerilerini profesyonel düzeye yükseltmek üzere girişimd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ulunma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aşkalarının gözetimi olmaksızın görevleri tanımlamak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öncelik sırasına koymak ve tamamlama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Zamanı etkili kullanmak ve iş yükünü idare etme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Öğrenmenin yaşamboyu bir süreç olduğuna ilişkin kararlı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davranışlar sergilemek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8:19:21Z</dcterms:created>
  <dc:creator>VESTEL</dc:creator>
  <dc:description/>
  <dc:language>en-US</dc:language>
  <cp:lastModifiedBy>Admin</cp:lastModifiedBy>
  <dcterms:modified xsi:type="dcterms:W3CDTF">2011-02-01T20:58:09Z</dcterms:modified>
  <cp:revision>5</cp:revision>
  <dc:subject/>
  <dc:title>Slayt 1</dc:title>
</cp:coreProperties>
</file>